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wmf" ContentType="image/x-wmf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624A-6E9C-4358-92E8-F53BB984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2F04-A41A-454A-8EFE-54DABEDAD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C989-2CF1-4DD3-90C6-8ADA5C0D1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6517-4F9F-4B03-9F4A-BC8558473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61278-4947-492B-988C-F39703026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77018-DE6F-44B9-9392-CBAE5BD1D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3E70C-8B8C-47BC-9D44-2EABE0FDA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36A39-6CDD-431C-8AF9-57F8B5CE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126D-F3DF-471D-BC83-E1759D4D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99685-ACBD-4BD0-B9B9-D6AAB78F4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6C6FE-1F88-4ACF-B9B9-F8A70A8A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09F7-185B-4C68-AF08-23317CB3A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BB542-9A0D-4ECA-887C-48833ED2D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AF3B-9F18-4F95-86F5-0494837FD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C0313-998B-42D7-BBEC-378FA4DE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64D8-1FCE-4F5F-AD16-E9219C7B0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EEE42-B77E-44C9-A4B8-EBFFAC520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A2DB-C470-49C1-873B-D09B11FC6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30AE-6F53-4579-9C86-6BCFEE261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A05-677B-43E1-8940-110558A5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A9A2-E6C4-4789-B9FC-193317C29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CFF2-FFE4-48E2-A6EC-24DD0B1A6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375B-0537-4510-BDCD-3E467085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FF84-B272-40C3-85A4-9863C526F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8AD5C-440B-4CC8-AEA5-776EC147A9A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3679F-4526-4765-8733-CCE206F64E2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BJ_002" descr=""/>
          <p:cNvPicPr/>
          <p:nvPr/>
        </p:nvPicPr>
        <p:blipFill>
          <a:blip r:embed="rId1">
            <a:lum contrast="-18000"/>
          </a:blip>
          <a:stretch/>
        </p:blipFill>
        <p:spPr>
          <a:xfrm>
            <a:off x="914400" y="1523880"/>
            <a:ext cx="7924680" cy="5029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736640" y="682560"/>
            <a:ext cx="29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ca07a"/>
                </a:solidFill>
                <a:latin typeface="Times New Roman"/>
              </a:rPr>
              <a:t>Unit   one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048120" y="2514600"/>
            <a:ext cx="374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0672a"/>
                </a:solidFill>
                <a:latin typeface="Times New Roman"/>
              </a:rPr>
              <a:t>Good friends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057400" y="48006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0fcfe"/>
                </a:solidFill>
                <a:latin typeface="Times New Roman"/>
              </a:rPr>
              <a:t>宁波万里国际学校 郑长青 薛洪波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BJ_012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914400" y="457200"/>
            <a:ext cx="7848720" cy="59436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1279440" y="1031760"/>
            <a:ext cx="420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402000"/>
                </a:solidFill>
                <a:latin typeface="Times New Roman"/>
              </a:rPr>
              <a:t>Chuck’s Friend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63000" y="1793880"/>
            <a:ext cx="783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.Read the title,the first sentence of each paragraph and look a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e picture, and then guess who  is Chuck’s friend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87400" y="2784600"/>
            <a:ext cx="806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II.Read the passage  and try to decide how many parts it should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be divided into and what the main idea of each part is. If there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is a topic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（主题 ）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sentence,then find it out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94960" y="4003560"/>
            <a:ext cx="429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t should be divided into 4 part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89920" y="4537080"/>
            <a:ext cx="58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rt 1(paragraph 1):the main idea of the fil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69120" y="4994280"/>
            <a:ext cx="699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rt 2(paragraph 2):what Chuck has to do on the islan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69480" y="5451480"/>
            <a:ext cx="52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Part 3(paragraph 3):What Chuck realis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89920" y="5908680"/>
            <a:ext cx="665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rt 4(paragraph 4):the lesson the film gives peopl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76520" y="12193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" w="21600" h="27006">
                <a:moveTo>
                  <a:pt x="3794" y="11110"/>
                </a:moveTo>
                <a:lnTo>
                  <a:pt x="8224" y="11110"/>
                </a:lnTo>
                <a:lnTo>
                  <a:pt x="12645" y="6497"/>
                </a:lnTo>
                <a:lnTo>
                  <a:pt x="12645" y="20510"/>
                </a:lnTo>
                <a:lnTo>
                  <a:pt x="8224" y="15897"/>
                </a:lnTo>
                <a:lnTo>
                  <a:pt x="3794" y="15897"/>
                </a:lnTo>
                <a:close/>
              </a:path>
              <a:path fill="darken" w="21600" h="27006">
                <a:moveTo>
                  <a:pt x="14299" y="13503"/>
                </a:moveTo>
                <a:lnTo>
                  <a:pt x="17806" y="13503"/>
                </a:lnTo>
              </a:path>
              <a:path fill="darken" w="21600" h="27006">
                <a:moveTo>
                  <a:pt x="14299" y="11110"/>
                </a:moveTo>
                <a:lnTo>
                  <a:pt x="17806" y="8342"/>
                </a:lnTo>
              </a:path>
              <a:path fill="darken" w="21600" h="27006">
                <a:moveTo>
                  <a:pt x="14299" y="15897"/>
                </a:moveTo>
                <a:lnTo>
                  <a:pt x="17806" y="18664"/>
                </a:lnTo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2" name="TW_004" descr=""/>
          <p:cNvPicPr/>
          <p:nvPr/>
        </p:nvPicPr>
        <p:blipFill>
          <a:blip r:embed="rId2"/>
          <a:srcRect l="-10397" t="5243" r="-5198" b="36845"/>
          <a:stretch/>
        </p:blipFill>
        <p:spPr>
          <a:xfrm>
            <a:off x="6324480" y="685800"/>
            <a:ext cx="83844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049040" y="1031760"/>
            <a:ext cx="31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Reading comprehensio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040400" y="1641600"/>
            <a:ext cx="785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.read paragraph one and give the main idea of the film in you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own word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119960" y="2403360"/>
            <a:ext cx="675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I.Read paragraph  two and finish the following table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50800" y="1371600"/>
            <a:ext cx="624240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600200" y="312408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124760" y="3174840"/>
            <a:ext cx="0" cy="152424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00200" y="3124080"/>
            <a:ext cx="55627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5257800"/>
            <a:ext cx="55627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00200" y="3581280"/>
            <a:ext cx="55627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67080" y="3124080"/>
            <a:ext cx="0" cy="160020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13680" y="3089160"/>
            <a:ext cx="215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huck has to d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51240" y="308916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n order t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4038480"/>
            <a:ext cx="55627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59240" y="354636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Collect wat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600200" y="4648320"/>
            <a:ext cx="0" cy="53316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124760" y="4648320"/>
            <a:ext cx="0" cy="60948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7080" y="4724280"/>
            <a:ext cx="0" cy="53352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00200" y="4495680"/>
            <a:ext cx="55627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600200" y="4889520"/>
            <a:ext cx="5562720" cy="0"/>
          </a:xfrm>
          <a:prstGeom prst="line">
            <a:avLst/>
          </a:prstGeom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326840" y="40035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Have sth. to ea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4842000"/>
            <a:ext cx="31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urvive without friend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50520" y="3546360"/>
            <a:ext cx="261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Have water to drin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737360" y="4003560"/>
            <a:ext cx="185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unt for food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752120" y="441972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Make  fi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91120" y="4460760"/>
            <a:ext cx="318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d3333"/>
                </a:solidFill>
                <a:latin typeface="Times New Roman"/>
              </a:rPr>
              <a:t>Cook food, keep warm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3880" y="483876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d3333"/>
                </a:solidFill>
                <a:latin typeface="Times New Roman"/>
              </a:rPr>
              <a:t>Develop friendship with</a:t>
            </a:r>
            <a:r>
              <a:rPr b="0" lang="en-US" sz="1800" spc="-1" strike="noStrike">
                <a:solidFill>
                  <a:srgbClr val="402000"/>
                </a:solidFill>
                <a:latin typeface="Times New Roman"/>
              </a:rPr>
              <a:t> ...</a:t>
            </a:r>
            <a:endParaRPr b="0" lang="en-US" sz="1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43280" y="5451480"/>
            <a:ext cx="772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II.read paragraph three and find out what Chuck learns abou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himself  when he is alone on the island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30" name="PL_061" descr=""/>
          <p:cNvPicPr/>
          <p:nvPr/>
        </p:nvPicPr>
        <p:blipFill>
          <a:blip r:embed="rId2"/>
          <a:srcRect l="0" t="0" r="53335" b="0"/>
          <a:stretch/>
        </p:blipFill>
        <p:spPr>
          <a:xfrm>
            <a:off x="4038480" y="2057400"/>
            <a:ext cx="26672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BJ_00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8077320" cy="61722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1050840" y="803160"/>
            <a:ext cx="751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IV.Read paragraph 4 and tell us what lesson you have lear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    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from the story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127160" y="1752480"/>
            <a:ext cx="2967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8a20"/>
                </a:solidFill>
                <a:latin typeface="Times New Roman"/>
              </a:rPr>
              <a:t>Language points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50840" y="2251080"/>
            <a:ext cx="54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1…when suddenly his plane crashes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15000" y="2514600"/>
            <a:ext cx="304920" cy="0"/>
          </a:xfrm>
          <a:prstGeom prst="line">
            <a:avLst/>
          </a:prstGeom>
          <a:ln w="9360">
            <a:solidFill>
              <a:srgbClr val="402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05520" y="225108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Page 15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122120" y="2631960"/>
            <a:ext cx="340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2.all alone---all by oneself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46520" y="3089160"/>
            <a:ext cx="720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My grandma is in her eighties and she does housework ~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74880" y="3546360"/>
            <a:ext cx="190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3.even though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969120" y="3851280"/>
            <a:ext cx="744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~ the weather is very hot, we still go on working in the sun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320" y="518148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5.care abou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990720" y="5638680"/>
            <a:ext cx="7630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Usually mother cares more about children than children care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about their mother.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50120" y="423216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4.treat …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7320" y="4765680"/>
            <a:ext cx="567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on’t force him. Please treat him as a friend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BJ_025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772400" cy="27432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1050840" y="782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27160" y="914400"/>
            <a:ext cx="196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d8a20"/>
                </a:solidFill>
                <a:latin typeface="Times New Roman"/>
              </a:rPr>
              <a:t>Discuss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1905120"/>
            <a:ext cx="7629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1.If you were alone on an island, what would you do in order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to survive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29680" y="2895480"/>
            <a:ext cx="8026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2.Imagine that 4 people are in an airplane that is going to crash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One is a policeman, one is a doctor, one is a teacher, and one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is a scientist. There is only one parachute. Decide who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  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should get the parachute and explain why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143000" y="4572000"/>
            <a:ext cx="765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Have you read </a:t>
            </a:r>
            <a:r>
              <a:rPr b="1" i="1" lang="zh-CN" sz="2400" spc="-1" strike="noStrike">
                <a:solidFill>
                  <a:srgbClr val="cd3333"/>
                </a:solidFill>
                <a:latin typeface="Times New Roman"/>
              </a:rPr>
              <a:t>Robinson Crusoe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. It is a very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famous book.In the book the hero has lived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alone on an island for over 20 years. He me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and overcame a lot of difficulties. He even met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some savages(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野人</a:t>
            </a:r>
            <a:r>
              <a:rPr b="0" lang="zh-CN" sz="2400" spc="-1" strike="noStrike">
                <a:solidFill>
                  <a:srgbClr val="402000"/>
                </a:solidFill>
                <a:latin typeface="Times New Roman"/>
              </a:rPr>
              <a:t>)…At last he came back home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51" name="N_005" descr=""/>
          <p:cNvPicPr/>
          <p:nvPr/>
        </p:nvPicPr>
        <p:blipFill>
          <a:blip r:embed="rId2"/>
          <a:srcRect l="11193" t="1154" r="6379" b="23266"/>
          <a:stretch/>
        </p:blipFill>
        <p:spPr>
          <a:xfrm>
            <a:off x="7467480" y="4572000"/>
            <a:ext cx="1005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15:40:02Z</dcterms:created>
  <dc:creator/>
  <dc:description/>
  <dc:language>en-US</dc:language>
  <cp:lastModifiedBy>your name</cp:lastModifiedBy>
  <dcterms:modified xsi:type="dcterms:W3CDTF">2003-08-18T01:22:55Z</dcterms:modified>
  <cp:revision>8</cp:revision>
  <dc:subject/>
  <dc:title>没有幻灯片标题</dc:title>
</cp:coreProperties>
</file>